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621-55BB-4B15-8150-4B416CEA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8D3-CB6A-4CB1-B945-7A48CE9B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C33-B5B8-41FA-86E0-6A50D451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6E0-19D7-4D52-8ACF-DCCA0B42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7276-85CB-4303-8FDC-7DBF4557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F82C-372C-43CC-84A7-46AEC8E4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5540-8A62-45A9-A7B2-69E1D0B5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777-2AC5-48CB-BD16-0799678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A98B-AAB2-431F-B9A3-1513AA1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AF53-1958-429F-91FC-F77DF3EB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5FC8-A4BA-49DE-9492-8EA6376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051-E917-4AE9-A083-58C0FFFA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2DA1-D24F-45FE-8070-DD92405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DFC7-3A81-483F-BB2F-736C7524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0E33-242C-4F76-8237-B80D4F2E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096-9CD9-4953-804C-79B02681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70BB-312A-4DF4-A0CF-9B536F0B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2A2-85FD-4E09-8793-230E845E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563-39A2-4BA0-A753-3330637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394-69F9-4D13-9AB4-0998A3E9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7DA-EFFE-417E-964C-AE1EA6AF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B60-06A5-48C7-889D-DB3AF0B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5C0-55D3-4B05-8649-741D5A0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418-9373-4273-B91B-5847DAEB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ienstag, 10. Dezember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B1DF0A-6835-4E1F-BF9D-F16BE763B123}" type="slidenum">
              <a: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420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Dienstag, 10. Dezember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48E5D8-86E2-45D5-BFAA-6A0B22FA2C4D}" type="slidenum">
              <a: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thomasius.de/1999/oe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4200"/>
            <a:ext cx="7773840" cy="11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Arial Unicode MS"/>
              </a:rPr>
              <a:t>Bugs +++ Bugs +++ Bugs +++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Die Larve von einer Wanze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601956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EBD-67F5-4272-B930-C8504339B8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40F89-579E-4C1D-9F8A-40DD14984E03}" type="datetime2">
              <a:rPr lang="en-US"/>
              <a:t>Friday, July 31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 online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092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Bitte click mich schnel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809880"/>
            <a:ext cx="4191120" cy="2210040"/>
          </a:xfrm>
          <a:custGeom>
            <a:avLst/>
            <a:gdLst>
              <a:gd name="textAreaLeft" fmla="*/ 142920 w 4191120"/>
              <a:gd name="textAreaRight" fmla="*/ 4048200 w 419112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40959" h="21600">
                <a:moveTo>
                  <a:pt x="0" y="0"/>
                </a:moveTo>
                <a:lnTo>
                  <a:pt x="40959" y="0"/>
                </a:lnTo>
                <a:lnTo>
                  <a:pt x="40959" y="21600"/>
                </a:lnTo>
                <a:lnTo>
                  <a:pt x="0" y="21600"/>
                </a:lnTo>
                <a:close/>
              </a:path>
              <a:path fill="lightenLess" w="40959" h="21600">
                <a:moveTo>
                  <a:pt x="0" y="0"/>
                </a:moveTo>
                <a:lnTo>
                  <a:pt x="40959" y="0"/>
                </a:lnTo>
                <a:lnTo>
                  <a:pt x="39559" y="1400"/>
                </a:lnTo>
                <a:lnTo>
                  <a:pt x="1400" y="1400"/>
                </a:lnTo>
                <a:close/>
              </a:path>
              <a:path fill="darken" w="40959" h="21600">
                <a:moveTo>
                  <a:pt x="40959" y="0"/>
                </a:moveTo>
                <a:lnTo>
                  <a:pt x="40959" y="21600"/>
                </a:lnTo>
                <a:lnTo>
                  <a:pt x="39559" y="20200"/>
                </a:lnTo>
                <a:lnTo>
                  <a:pt x="39559" y="1400"/>
                </a:lnTo>
                <a:close/>
              </a:path>
              <a:path fill="darkenLess" w="40959" h="21600">
                <a:moveTo>
                  <a:pt x="40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59" y="20200"/>
                </a:lnTo>
                <a:close/>
              </a:path>
              <a:path fill="lighten" w="40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59" h="21600">
                <a:moveTo>
                  <a:pt x="23978" y="10800"/>
                </a:moveTo>
                <a:lnTo>
                  <a:pt x="13473" y="17806"/>
                </a:lnTo>
                <a:lnTo>
                  <a:pt x="13473" y="3794"/>
                </a:lnTo>
                <a:close/>
              </a:path>
              <a:path fill="darken" w="40959" h="21600">
                <a:moveTo>
                  <a:pt x="25824" y="3794"/>
                </a:moveTo>
                <a:lnTo>
                  <a:pt x="25824" y="17806"/>
                </a:lnTo>
                <a:lnTo>
                  <a:pt x="27486" y="17806"/>
                </a:lnTo>
                <a:lnTo>
                  <a:pt x="27486" y="379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133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Bitte schnell auf die Schaltfläche unten rechts klicken !!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99000" y="4583160"/>
            <a:ext cx="468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homasius.de/1999/oe.ht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6CC-8A95-4D3F-91E1-1D5C51CAD43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16512-8962-48A2-A303-EF7053C18D23}" type="datetime2">
              <a:rPr lang="en-US"/>
              <a:t>Friday, July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2209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Durch die „Bettwanze“ haben die Wanzen einen sehr schlechten Ruf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F2B-19C8-4EF1-B288-85AC17934E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DEBDE-D02E-4F29-986D-D507FC5C1D3E}" type="datetime2">
              <a:rPr lang="en-US"/>
              <a:t>Friday, July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2209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Aber in unserem Gebiet gehören etwa 600 Arten zur Familie der Wanze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844-E486-46E1-8649-B96CBBBA20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CDD31-5DD0-4D7D-9589-ED5913781DB3}" type="datetime2">
              <a:rPr lang="en-US"/>
              <a:t>Friday, July 31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2209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Zum Beispiel die Streifenwanze.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A41-6ACD-4CD1-91C8-B0F08156A7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2384C-4EBD-43C6-A25D-CDF1D1CA6AB5}" type="datetime2">
              <a:rPr lang="en-US"/>
              <a:t>Friday, July 31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2209680"/>
            <a:ext cx="4114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Die Streifenwanze saugt nur Pflanzensäft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Sie kann sich nur von den Säften von zwei Pflanzenfamilien ernähre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988-C600-46CD-955C-30327DFC78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2D600-1F0E-4DC0-A07D-AF289E80F7A4}" type="datetime2">
              <a:rPr lang="en-US"/>
              <a:t>Friday, July 31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ine Wanze</a:t>
            </a:r>
            <a:br>
              <a:rPr sz="4400"/>
            </a:b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auf einer Getreideähre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67000" y="198108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A74-B1EF-4121-B4C0-FBE9749D69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DA294-D571-4BA7-876E-64D6A68B2865}" type="datetime2">
              <a:rPr lang="en-US"/>
              <a:t>Friday, July 31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ine Blumenwanzenar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096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Rechts sehen wir eine der häufigsten Insektenarten in Deutschland, die Blumenwanzenart Anthocoris nemorum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810240" cy="255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2F2-C558-4F81-8066-8B627C955B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3B0BC-0031-437B-BE41-6CBD85F7BC9D}" type="datetime2">
              <a:rPr lang="en-US"/>
              <a:t>Friday, July 31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ine Blumenwanzenar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096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Da diese Blumenwanze nur 3,8 mm lang ist, wird sie meist übersehe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810240" cy="255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088-5E27-475E-9871-F699506EC6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AD601-448D-471F-9A92-AD2EE1A88977}" type="datetime2">
              <a:rPr lang="en-US"/>
              <a:t>Friday, July 31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09680"/>
            <a:ext cx="3505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Eine Springwanzenart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Diese Art lebt am Rand von Gewässern.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Dort springt sie von Wasserpflanze zu Wasserpflanz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268360"/>
            <a:ext cx="3809880" cy="354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1B4-0D49-49E0-8A3E-D1F4550E09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3FA0A-C04A-453A-99CE-BBC7B72E31B4}" type="datetime2">
              <a:rPr lang="en-US"/>
              <a:t>Friday, July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7:16:41Z</dcterms:created>
  <dc:creator>ECDL070612</dc:creator>
  <dc:description/>
  <dc:language>en-US</dc:language>
  <cp:lastModifiedBy>ECDL070612</cp:lastModifiedBy>
  <dcterms:modified xsi:type="dcterms:W3CDTF">2006-08-17T11:45:27Z</dcterms:modified>
  <cp:revision>14</cp:revision>
  <dc:subject/>
  <dc:title>PowerPoint-Präsentation</dc:title>
</cp:coreProperties>
</file>