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753-4BFD-4B34-8E44-DA94EB6F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825-AE0A-45BA-BBAB-90D2F1D3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D67-210F-4FFF-A557-CC03ED91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EEA-D2C8-471E-BB85-90631B2C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D446-DA50-4819-B0D8-6E5591A6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2C89-49D8-43EA-BA4F-A9C05228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E699-5D45-4687-A952-B21D2D10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745B-689B-4C34-910E-A0172251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DC16-41A2-43A5-BFA7-BEF7693B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C157-AF16-4E26-A62F-579F25FC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10DD-E7B7-45FF-AF2E-DE95BA12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9C8-B696-406F-8970-7AC8C264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3208-2A97-44A5-B28E-8261741A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C181-90FC-4958-A648-C499AF16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82C4-F9B8-4735-838C-9E4637EE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70A2-B6B9-4820-86CE-7D58B25A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83BE-617B-4AE2-ACC5-B7ED5C90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14B-0402-4BF6-BC4B-0BF0EA71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017-E4A9-4489-BA24-DEA79C9A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977-B33F-42B4-8425-2A67D118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444-413E-40F0-9C6C-DD9D66E3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6D7-5667-4BB9-A2FF-A0DF2891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820-FCD3-48A2-8726-F6348691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71B-8A15-4445-A827-7679F7CC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ienstag, 10. Dezember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715FA9-882E-46A6-84FC-BBEBB4D39680}" type="slidenum">
              <a:rPr b="0" lang="de-DE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420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de-DE" sz="1400" spc="-1" strike="noStrike">
                <a:solidFill>
                  <a:srgbClr val="0000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Dienstag, 10. Dezember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de-DE" sz="1400" spc="-1" strike="noStrike">
                <a:solidFill>
                  <a:srgbClr val="0000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EC32A7-3739-4029-ACC8-2DD663E71B27}" type="slidenum">
              <a:rPr b="0" lang="de-DE" sz="1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thomasius.de/1999/oe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4200"/>
            <a:ext cx="7773840" cy="11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 Unicode MS"/>
              </a:rPr>
              <a:t>Wanzen</a:t>
            </a:r>
            <a:endParaRPr b="0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Arial Unicode MS"/>
              </a:rPr>
              <a:t>Bugs +++ Bugs +++ Bugs +++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Die Larve von einer Wanze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601956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630-254D-4E96-9E1C-458B3D3B78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558F4-B665-43FF-BCAC-1946E6562268}" type="datetime2">
              <a:rPr lang="en-US"/>
              <a:t>Thursday, July 30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Wanzen online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0920" y="2819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Bitte click mich schnel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809880"/>
            <a:ext cx="4191120" cy="2210040"/>
          </a:xfrm>
          <a:custGeom>
            <a:avLst/>
            <a:gdLst>
              <a:gd name="textAreaLeft" fmla="*/ 142920 w 4191120"/>
              <a:gd name="textAreaRight" fmla="*/ 4048200 w 4191120"/>
              <a:gd name="textAreaTop" fmla="*/ 142920 h 2210040"/>
              <a:gd name="textAreaBottom" fmla="*/ 2067120 h 2210040"/>
            </a:gdLst>
            <a:ahLst/>
            <a:rect l="textAreaLeft" t="textAreaTop" r="textAreaRight" b="textAreaBottom"/>
            <a:pathLst>
              <a:path w="40959" h="21600">
                <a:moveTo>
                  <a:pt x="0" y="0"/>
                </a:moveTo>
                <a:lnTo>
                  <a:pt x="40959" y="0"/>
                </a:lnTo>
                <a:lnTo>
                  <a:pt x="40959" y="21600"/>
                </a:lnTo>
                <a:lnTo>
                  <a:pt x="0" y="21600"/>
                </a:lnTo>
                <a:close/>
              </a:path>
              <a:path fill="lightenLess" w="40959" h="21600">
                <a:moveTo>
                  <a:pt x="0" y="0"/>
                </a:moveTo>
                <a:lnTo>
                  <a:pt x="40959" y="0"/>
                </a:lnTo>
                <a:lnTo>
                  <a:pt x="39559" y="1400"/>
                </a:lnTo>
                <a:lnTo>
                  <a:pt x="1400" y="1400"/>
                </a:lnTo>
                <a:close/>
              </a:path>
              <a:path fill="darken" w="40959" h="21600">
                <a:moveTo>
                  <a:pt x="40959" y="0"/>
                </a:moveTo>
                <a:lnTo>
                  <a:pt x="40959" y="21600"/>
                </a:lnTo>
                <a:lnTo>
                  <a:pt x="39559" y="20200"/>
                </a:lnTo>
                <a:lnTo>
                  <a:pt x="39559" y="1400"/>
                </a:lnTo>
                <a:close/>
              </a:path>
              <a:path fill="darkenLess" w="40959" h="21600">
                <a:moveTo>
                  <a:pt x="40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59" y="20200"/>
                </a:lnTo>
                <a:close/>
              </a:path>
              <a:path fill="lighten" w="40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59" h="21600">
                <a:moveTo>
                  <a:pt x="23978" y="10800"/>
                </a:moveTo>
                <a:lnTo>
                  <a:pt x="13473" y="17806"/>
                </a:lnTo>
                <a:lnTo>
                  <a:pt x="13473" y="3794"/>
                </a:lnTo>
                <a:close/>
              </a:path>
              <a:path fill="darken" w="40959" h="21600">
                <a:moveTo>
                  <a:pt x="25824" y="3794"/>
                </a:moveTo>
                <a:lnTo>
                  <a:pt x="25824" y="17806"/>
                </a:lnTo>
                <a:lnTo>
                  <a:pt x="27486" y="17806"/>
                </a:lnTo>
                <a:lnTo>
                  <a:pt x="27486" y="379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133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Bitte schnell auf die Schaltfläche unten rechts klicken !!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99000" y="4583160"/>
            <a:ext cx="468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homasius.de/1999/oe.ht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12A-2C71-4D1E-9509-E1AF1820405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53D75-03C1-451C-BF95-43E1D154A1C9}" type="datetime2">
              <a:rPr lang="en-US"/>
              <a:t>Thursday, July 30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Wanzen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809880" cy="2535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22096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Durch die „Bettwanze“ haben die Wanzen einen sehr schlechten Ruf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DF4-45BD-4C52-9BD7-D47744A298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D0E0A-6E61-4732-8204-27F2E0DE88AB}" type="datetime2">
              <a:rPr lang="en-US"/>
              <a:t>Thursday, July 30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Wanzen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809880" cy="2535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22096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Aber in unserem Gebiet gehören etwa 600 Arten zur Familie der Wanze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4EB-37AB-4221-9C90-E797B84D86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ED3B9-4E33-452B-8D49-F289E1D63D1A}" type="datetime2">
              <a:rPr lang="en-US"/>
              <a:t>Thursday, July 30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Wanzen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809880" cy="2535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" y="22096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Zum Beispiel die Streifenwanze.</a:t>
            </a:r>
            <a:br>
              <a:rPr sz="2400"/>
            </a:b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942-13E7-4310-9E87-115963CB62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1BADE-7514-4579-A899-D876E889B850}" type="datetime2">
              <a:rPr lang="en-US"/>
              <a:t>Thursday, July 30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Wanzen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809880" cy="253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2209680"/>
            <a:ext cx="4114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Die Streifenwanze saugt nur Pflanzensäft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Sie kann sich nur von den Säften von zwei Pflanzenfamilien ernähre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4E7-8D91-44AF-9D22-F5743BB527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63778-14E7-47E1-9DED-664D80F2D0C3}" type="datetime2">
              <a:rPr lang="en-US"/>
              <a:t>Thursday, July 30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Eine Wanze</a:t>
            </a:r>
            <a:br>
              <a:rPr sz="4400"/>
            </a:b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auf einer Getreideähre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67000" y="198108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342-AED5-46AD-97A4-995F7786AB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E53FE-CEDA-4B80-AC23-65CE4B79F2F3}" type="datetime2">
              <a:rPr lang="en-US"/>
              <a:t>Thursday, July 30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Eine Blumenwanzenart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20968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Rechts sehen wir eine der häufigsten Insektenarten in Deutschland, die Blumenwanzenart Anthocoris nemorum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3810240" cy="255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251-06E0-42FA-AF46-52238084BC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D6C47-FA9D-4137-ADE6-497B38AACA99}" type="datetime2">
              <a:rPr lang="en-US"/>
              <a:t>Thursday, July 30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Eine Blumenwanzenart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2096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Da diese Blumenwanze nur 3,8 mm lang ist, wird sie meist übersehe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3810240" cy="255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C69-83E8-4520-A574-470DF2A3A8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A8A36-482B-43E2-BCC9-196CAF3CAFD9}" type="datetime2">
              <a:rPr lang="en-US"/>
              <a:t>Thursday, July 30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Wanzen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09680"/>
            <a:ext cx="3505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Eine Springwanzenart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Diese Art lebt am Rand von Gewässern.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Dort springt sie von Wasserpflanze zu Wasserpflanz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2268360"/>
            <a:ext cx="3809880" cy="354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gs +++ Wanzen +++ B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40E-037E-4E37-B58E-7F9E88EFE8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EB806-511B-46A2-BD0F-766A7DEB24BB}" type="datetime2">
              <a:rPr lang="en-US"/>
              <a:t>Thursday, July 30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7:16:41Z</dcterms:created>
  <dc:creator>ECDL070612</dc:creator>
  <dc:description/>
  <dc:language>en-US</dc:language>
  <cp:lastModifiedBy>ECDL070612</cp:lastModifiedBy>
  <dcterms:modified xsi:type="dcterms:W3CDTF">2006-08-17T11:45:27Z</dcterms:modified>
  <cp:revision>14</cp:revision>
  <dc:subject/>
  <dc:title>PowerPoint-Präsentation</dc:title>
</cp:coreProperties>
</file>