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A43-B845-4B41-B10F-3D022F98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FDB-5D6F-4DE2-BB41-BEF2A258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B17-C626-4DF7-BB6E-FBF97D92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21F-B5CB-479A-9E2E-5CF57F54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E6F-D1C6-4BBF-9190-34B97ED7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1C9-477C-4EF5-97FF-B059A920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546-C4F2-41CB-8393-CB00024B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546-88EB-42C1-BEE1-DA804A59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3BB-88C4-44F3-AFBE-66ECB53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C56-EFB9-4249-95A1-7D5B8BA5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446-6CFC-40D2-9B77-52F57098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655-A1BA-44B9-827D-83FBCB8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2020-33B3-4580-81BF-20B7FAB6EA41}" type="datetime2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Donnerstag, 30. Juli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Sebstpräsentation +++ Erwin Thomasius +++ Selbstprä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CD02-2C10-4771-9054-BE05A2361C28}" type="slidenum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omasius.de/" TargetMode="External"/><Relationship Id="rId2" Type="http://schemas.openxmlformats.org/officeDocument/2006/relationships/hyperlink" Target="mailto:erwin@thomasius.de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win-thomasius.de/home/lebenslauf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114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cc"/>
                </a:solidFill>
                <a:latin typeface="Arial Unicode MS"/>
              </a:rPr>
              <a:t>Selbstpräsentation</a:t>
            </a:r>
            <a:br>
              <a:rPr sz="4000"/>
            </a:br>
            <a:r>
              <a:rPr b="0" lang="de-DE" sz="4000" spc="-1" strike="noStrike">
                <a:solidFill>
                  <a:srgbClr val="3333cc"/>
                </a:solidFill>
                <a:latin typeface="Arial Unicode MS"/>
              </a:rPr>
              <a:t>Erwin Thomasius</a:t>
            </a:r>
            <a:endParaRPr b="0" lang="en-US" sz="40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388764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Reuterstraße 5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12053 Berlin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www.thomasius.de</a:t>
            </a: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030 – 6 23 34 77</a:t>
            </a:r>
            <a:br>
              <a:rPr sz="2400"/>
            </a:b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erwin@thomasius.de</a:t>
            </a: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 Unicode MS"/>
              </a:rPr>
              <a:t>              </a:t>
            </a: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 Unicode MS"/>
              </a:rPr>
              <a:t>                                            </a:t>
            </a: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 Unicode MS"/>
              </a:rPr>
              <a:t>             </a:t>
            </a: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95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75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55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75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75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355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umsplatzhalt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4C0A-21C2-4E27-836A-83DCB2524281}" type="datetime2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Donnerstag, 30. Juli 2026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Fußzeilenplatzhalt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Sebstpräsentation +++ Erwin Thomasius +++ Selbstpräs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Foliennummernplatzhalt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2690-1AEF-489C-B7A0-084A4DC3FABC}" type="slidenum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Mein Lebenslauf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436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755640" y="1628640"/>
            <a:ext cx="77724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Geburtsdatum: 13.01.1954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Geburtsort: Göttingen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7 EDV-Trainer für Senioren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6 Schulhelfer an Grundschule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5 Kassierer im „Haus am Waldsee“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2 Projektleiter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2000 EDV-Trainer für Kinder und Jugendliche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93 Reiseleiter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86 Biologe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84 Studienreferendar 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82 Staatsexamen in Biologie und Deutsch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79 Philosophikum an der Freien Universität Berlin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1972 Abitur am Gymnasium Andreanum in Hildesheim</a:t>
            </a:r>
            <a:br>
              <a:rPr sz="1600"/>
            </a:b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umsplatzhalt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7EC5-CF57-4B38-9923-28BC9939F0EA}" type="datetime2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Donnerstag, 30. Juli 2026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Fußzeilenplatzhalt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Sebstpräsentation +++ Erwin Thomasius +++ Selbstpräs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Foliennummernplatzhalt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C5BF-6084-4A78-AC2F-64AD783BA78D}" type="slidenum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rfahrung und Kreativität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5800" y="2209680"/>
            <a:ext cx="4114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Ich besitze Erfahrungen in unterschiedlichen Arbeits-</a:t>
            </a:r>
            <a:br>
              <a:rPr sz="2400"/>
            </a:b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und Lebensbereiche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 Unicode MS"/>
              </a:rPr>
              <a:t>und kann mich schnell in ein neues Gebiet einarbeite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4" name="Picture 6" descr="erwin_thomasius_photo"/>
          <p:cNvPicPr/>
          <p:nvPr/>
        </p:nvPicPr>
        <p:blipFill>
          <a:blip r:embed="rId1"/>
          <a:stretch/>
        </p:blipFill>
        <p:spPr>
          <a:xfrm>
            <a:off x="4987800" y="1981080"/>
            <a:ext cx="3129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umsplatzhalt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7728-4D1C-43FC-8251-42B9192440D6}" type="datetime2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Donnerstag, 30. Juli 2026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Sebstpräsentation +++ Erwin Thomasius +++ Selbstpräs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FD52-D4EE-4CB7-83CD-60EA58995B0A}" type="slidenum">
              <a:rPr b="0" lang="de-DE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 Unicode MS"/>
              </a:rPr>
              <a:t>Erwin Thomasius online</a:t>
            </a:r>
            <a:endParaRPr b="0" lang="en-US" sz="44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Unicode M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90920" y="2819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Bitte click mich schnel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AutoShape 6">
            <a:hlinkClick r:id="rId1"/>
          </p:cNvPr>
          <p:cNvSpPr/>
          <p:nvPr/>
        </p:nvSpPr>
        <p:spPr>
          <a:xfrm>
            <a:off x="4114800" y="3809880"/>
            <a:ext cx="4191120" cy="2210040"/>
          </a:xfrm>
          <a:custGeom>
            <a:avLst/>
            <a:gdLst>
              <a:gd name="textAreaLeft" fmla="*/ 142920 w 4191120"/>
              <a:gd name="textAreaRight" fmla="*/ 4048200 w 419112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40959" h="21600">
                <a:moveTo>
                  <a:pt x="0" y="0"/>
                </a:moveTo>
                <a:lnTo>
                  <a:pt x="40959" y="0"/>
                </a:lnTo>
                <a:lnTo>
                  <a:pt x="40959" y="21600"/>
                </a:lnTo>
                <a:lnTo>
                  <a:pt x="0" y="21600"/>
                </a:lnTo>
                <a:close/>
              </a:path>
              <a:path fill="lightenLess" w="40959" h="21600">
                <a:moveTo>
                  <a:pt x="0" y="0"/>
                </a:moveTo>
                <a:lnTo>
                  <a:pt x="40959" y="0"/>
                </a:lnTo>
                <a:lnTo>
                  <a:pt x="39559" y="1400"/>
                </a:lnTo>
                <a:lnTo>
                  <a:pt x="1400" y="1400"/>
                </a:lnTo>
                <a:close/>
              </a:path>
              <a:path fill="darken" w="40959" h="21600">
                <a:moveTo>
                  <a:pt x="40959" y="0"/>
                </a:moveTo>
                <a:lnTo>
                  <a:pt x="40959" y="21600"/>
                </a:lnTo>
                <a:lnTo>
                  <a:pt x="39559" y="20200"/>
                </a:lnTo>
                <a:lnTo>
                  <a:pt x="39559" y="1400"/>
                </a:lnTo>
                <a:close/>
              </a:path>
              <a:path fill="darkenLess" w="40959" h="21600">
                <a:moveTo>
                  <a:pt x="40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59" y="20200"/>
                </a:lnTo>
                <a:close/>
              </a:path>
              <a:path fill="lighten" w="40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59" h="21600">
                <a:moveTo>
                  <a:pt x="23978" y="10800"/>
                </a:moveTo>
                <a:lnTo>
                  <a:pt x="13473" y="17806"/>
                </a:lnTo>
                <a:lnTo>
                  <a:pt x="13473" y="3794"/>
                </a:lnTo>
                <a:close/>
              </a:path>
              <a:path fill="darken" w="40959" h="21600">
                <a:moveTo>
                  <a:pt x="25824" y="3794"/>
                </a:moveTo>
                <a:lnTo>
                  <a:pt x="25824" y="17806"/>
                </a:lnTo>
                <a:lnTo>
                  <a:pt x="27486" y="17806"/>
                </a:lnTo>
                <a:lnTo>
                  <a:pt x="27486" y="379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62120" y="2133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Bitte schnell auf die Schaltfläche unten rechts klicken !!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7:16:41Z</dcterms:created>
  <dc:creator>ECDL070612</dc:creator>
  <dc:description/>
  <dc:language>en-US</dc:language>
  <cp:lastModifiedBy>Thomasius</cp:lastModifiedBy>
  <dcterms:modified xsi:type="dcterms:W3CDTF">2010-04-16T21:06:21Z</dcterms:modified>
  <cp:revision>33</cp:revision>
  <dc:subject/>
  <dc:title>PowerPoint-Präsentation</dc:title>
</cp:coreProperties>
</file>