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52B6-9847-4D86-BDCA-C58AA8A97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81CD-A3CF-4BC6-B2A3-94EC9937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4C24-982D-4669-9EE9-199173203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517F-7FFD-44F8-952F-6E2DBE90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D583-7A42-4459-B7AD-DC8C2BC9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5F62-96A3-4EC8-883C-6BCF4C97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9D40-58BD-4D5E-80E3-1FA7FE7C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852B-9931-48D4-B809-28035F61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80D7-E198-4F1A-B83F-2992ADDF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26C3-8B4C-42EA-ADB6-5325484F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54E0-3419-4FBF-9926-A69CC929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4A0C-54D6-41B7-BF4E-9B8ACE62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  <a:p>
            <a:pPr lvl="1"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  <a:p>
            <a:pPr lvl="2"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  <a:p>
            <a:pPr lvl="3"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  <a:p>
            <a:pPr lvl="4"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  <a:p>
            <a:pPr lvl="5"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  <a:p>
            <a:pPr lvl="6"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6436-543C-4E66-9483-3D060D4B1F71}" type="datetime2">
              <a:rPr b="0" lang="de-DE" sz="1400" spc="-1" strike="noStrike">
                <a:solidFill>
                  <a:srgbClr val="0000ff"/>
                </a:solidFill>
                <a:latin typeface="Times New Roman"/>
              </a:rPr>
              <a:t>Freitag, 31. Juli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Times New Roman"/>
              </a:rPr>
              <a:t>Sebstpräsentation +++ Erwin Thomasius +++ Selbstpräs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D0A1-BA78-4702-A50A-7B3F288EF495}" type="slidenum">
              <a:rPr b="0" lang="de-DE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homasius.de/" TargetMode="External"/><Relationship Id="rId2" Type="http://schemas.openxmlformats.org/officeDocument/2006/relationships/hyperlink" Target="mailto:erwin@thomasius.de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rwin-thomasius.de/home/lebenslauf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3840" cy="114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cc"/>
                </a:solidFill>
                <a:latin typeface="Arial Unicode MS"/>
              </a:rPr>
              <a:t>Selbstpräsentation</a:t>
            </a:r>
            <a:br>
              <a:rPr sz="4000"/>
            </a:br>
            <a:r>
              <a:rPr b="0" lang="de-DE" sz="4000" spc="-1" strike="noStrike">
                <a:solidFill>
                  <a:srgbClr val="3333cc"/>
                </a:solidFill>
                <a:latin typeface="Arial Unicode MS"/>
              </a:rPr>
              <a:t>Erwin Thomasius</a:t>
            </a:r>
            <a:endParaRPr b="0" lang="en-US" sz="40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2349000"/>
            <a:ext cx="388764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 Unicode MS"/>
              </a:rPr>
              <a:t>Reuterstraße 5</a:t>
            </a:r>
            <a:br>
              <a:rPr sz="2400"/>
            </a:br>
            <a:r>
              <a:rPr b="0" lang="de-DE" sz="2400" spc="-1" strike="noStrike">
                <a:solidFill>
                  <a:srgbClr val="0000ff"/>
                </a:solidFill>
                <a:latin typeface="Arial Unicode MS"/>
              </a:rPr>
              <a:t>12053 Berlin</a:t>
            </a:r>
            <a:br>
              <a:rPr sz="2400"/>
            </a:br>
            <a:endParaRPr b="0" lang="en-US" sz="2400" spc="-1" strike="noStrike">
              <a:solidFill>
                <a:srgbClr val="0000ff"/>
              </a:solidFill>
              <a:latin typeface="Arial Unicode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DE" sz="20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www.thomasius.de</a:t>
            </a:r>
            <a:r>
              <a:rPr b="0" lang="de-DE" sz="2400" spc="-1" strike="noStrike">
                <a:solidFill>
                  <a:srgbClr val="0000ff"/>
                </a:solidFill>
                <a:latin typeface="Arial Unicode MS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ff"/>
                </a:solidFill>
                <a:latin typeface="Arial Unicode MS"/>
              </a:rPr>
              <a:t>030 – 6 23 34 77</a:t>
            </a:r>
            <a:br>
              <a:rPr sz="2400"/>
            </a:br>
            <a:r>
              <a:rPr b="0" lang="de-DE" sz="2000" spc="-1" strike="noStrike" u="sng">
                <a:solidFill>
                  <a:srgbClr val="ccccff"/>
                </a:solidFill>
                <a:uFillTx/>
                <a:latin typeface="Arial Unicode MS"/>
                <a:hlinkClick r:id="rId2"/>
              </a:rPr>
              <a:t>erwin@thomasius.de</a:t>
            </a:r>
            <a:endParaRPr b="0" lang="en-US" sz="2000" spc="-1" strike="noStrike">
              <a:solidFill>
                <a:srgbClr val="0000ff"/>
              </a:solidFill>
              <a:latin typeface="Arial Unicode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Arial Unicode MS"/>
              </a:rPr>
              <a:t>              </a:t>
            </a:r>
            <a:endParaRPr b="0" lang="en-US" sz="2000" spc="-1" strike="noStrike">
              <a:solidFill>
                <a:srgbClr val="0000ff"/>
              </a:solidFill>
              <a:latin typeface="Arial Unicode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Arial Unicode MS"/>
              </a:rPr>
              <a:t>                                            </a:t>
            </a:r>
            <a:endParaRPr b="0" lang="en-US" sz="2000" spc="-1" strike="noStrike">
              <a:solidFill>
                <a:srgbClr val="0000ff"/>
              </a:solidFill>
              <a:latin typeface="Arial Unicode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Arial Unicode MS"/>
              </a:rPr>
              <a:t>             </a:t>
            </a:r>
            <a:endParaRPr b="0" lang="en-US" sz="2000" spc="-1" strike="noStrike">
              <a:solidFill>
                <a:srgbClr val="0000ff"/>
              </a:solidFill>
              <a:latin typeface="Arial Unicode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 Unicode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 Unicode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75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95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75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9550"/>
                            </p:stCondLst>
                            <p:childTnLst>
                              <p:par>
                                <p:cTn id="13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75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155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75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355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75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umsplatzhalt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EE55-B46A-46C3-A4C9-2D29F55F3086}" type="datetime2">
              <a:rPr b="0" lang="de-DE" sz="1400" spc="-1" strike="noStrike">
                <a:solidFill>
                  <a:srgbClr val="0000ff"/>
                </a:solidFill>
                <a:latin typeface="Times New Roman"/>
              </a:rPr>
              <a:t>Freitag, 31. Juli 2026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Fußzeilenplatzhalt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Times New Roman"/>
              </a:rPr>
              <a:t>Sebstpräsentation +++ Erwin Thomasius +++ Selbstpräsentatio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Foliennummernplatzhalt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0982-66EA-4ED0-A638-AD97DC09B892}" type="slidenum">
              <a:rPr b="0" lang="de-DE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ff"/>
                </a:solidFill>
                <a:latin typeface="Arial Unicode MS"/>
              </a:rPr>
              <a:t>Mein Lebenslauf</a:t>
            </a: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684360" y="1628640"/>
            <a:ext cx="77724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755640" y="1628640"/>
            <a:ext cx="77724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Arial Unicode MS"/>
              </a:rPr>
              <a:t>Geburtsdatum: 13.01.1954</a:t>
            </a:r>
            <a:br>
              <a:rPr sz="1600"/>
            </a:br>
            <a:r>
              <a:rPr b="0" lang="de-DE" sz="1600" spc="-1" strike="noStrike">
                <a:solidFill>
                  <a:srgbClr val="0000ff"/>
                </a:solidFill>
                <a:latin typeface="Arial Unicode MS"/>
              </a:rPr>
              <a:t>Geburtsort: Göttingen</a:t>
            </a: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0000ff"/>
                </a:solidFill>
                <a:latin typeface="Arial Unicode MS"/>
              </a:rPr>
              <a:t>2007 EDV-Trainer für Senioren</a:t>
            </a:r>
            <a:br>
              <a:rPr sz="1600"/>
            </a:br>
            <a:r>
              <a:rPr b="0" lang="de-DE" sz="1600" spc="-1" strike="noStrike">
                <a:solidFill>
                  <a:srgbClr val="0000ff"/>
                </a:solidFill>
                <a:latin typeface="Arial Unicode MS"/>
              </a:rPr>
              <a:t>2006 Schulhelfer an Grundschule</a:t>
            </a:r>
            <a:br>
              <a:rPr sz="1600"/>
            </a:br>
            <a:r>
              <a:rPr b="0" lang="de-DE" sz="1600" spc="-1" strike="noStrike">
                <a:solidFill>
                  <a:srgbClr val="0000ff"/>
                </a:solidFill>
                <a:latin typeface="Arial Unicode MS"/>
              </a:rPr>
              <a:t>2005 Kassierer im „Haus am Waldsee“</a:t>
            </a:r>
            <a:br>
              <a:rPr sz="1600"/>
            </a:br>
            <a:r>
              <a:rPr b="0" lang="de-DE" sz="1600" spc="-1" strike="noStrike">
                <a:solidFill>
                  <a:srgbClr val="0000ff"/>
                </a:solidFill>
                <a:latin typeface="Arial Unicode MS"/>
              </a:rPr>
              <a:t>2002 Projektleiter</a:t>
            </a:r>
            <a:br>
              <a:rPr sz="1600"/>
            </a:br>
            <a:r>
              <a:rPr b="0" lang="de-DE" sz="1600" spc="-1" strike="noStrike">
                <a:solidFill>
                  <a:srgbClr val="0000ff"/>
                </a:solidFill>
                <a:latin typeface="Arial Unicode MS"/>
              </a:rPr>
              <a:t>2000 EDV-Trainer für Kinder und Jugendliche</a:t>
            </a:r>
            <a:br>
              <a:rPr sz="1600"/>
            </a:br>
            <a:r>
              <a:rPr b="0" lang="de-DE" sz="1600" spc="-1" strike="noStrike">
                <a:solidFill>
                  <a:srgbClr val="0000ff"/>
                </a:solidFill>
                <a:latin typeface="Arial Unicode MS"/>
              </a:rPr>
              <a:t>1993 Reiseleiter</a:t>
            </a:r>
            <a:br>
              <a:rPr sz="1600"/>
            </a:br>
            <a:r>
              <a:rPr b="0" lang="de-DE" sz="1600" spc="-1" strike="noStrike">
                <a:solidFill>
                  <a:srgbClr val="0000ff"/>
                </a:solidFill>
                <a:latin typeface="Arial Unicode MS"/>
              </a:rPr>
              <a:t>1986 Biologe</a:t>
            </a:r>
            <a:br>
              <a:rPr sz="1600"/>
            </a:br>
            <a:r>
              <a:rPr b="0" lang="de-DE" sz="1600" spc="-1" strike="noStrike">
                <a:solidFill>
                  <a:srgbClr val="0000ff"/>
                </a:solidFill>
                <a:latin typeface="Arial Unicode MS"/>
              </a:rPr>
              <a:t>1984 Studienreferendar </a:t>
            </a:r>
            <a:br>
              <a:rPr sz="1600"/>
            </a:br>
            <a:r>
              <a:rPr b="0" lang="de-DE" sz="1600" spc="-1" strike="noStrike">
                <a:solidFill>
                  <a:srgbClr val="0000ff"/>
                </a:solidFill>
                <a:latin typeface="Arial Unicode MS"/>
              </a:rPr>
              <a:t>1982 Staatsexamen in Biologie und Deutsch</a:t>
            </a:r>
            <a:br>
              <a:rPr sz="1600"/>
            </a:br>
            <a:r>
              <a:rPr b="0" lang="de-DE" sz="1600" spc="-1" strike="noStrike">
                <a:solidFill>
                  <a:srgbClr val="0000ff"/>
                </a:solidFill>
                <a:latin typeface="Arial Unicode MS"/>
              </a:rPr>
              <a:t>1979 Philosophikum an der Freien Universität Berlin</a:t>
            </a:r>
            <a:br>
              <a:rPr sz="1600"/>
            </a:br>
            <a:r>
              <a:rPr b="0" lang="de-DE" sz="1600" spc="-1" strike="noStrike">
                <a:solidFill>
                  <a:srgbClr val="0000ff"/>
                </a:solidFill>
                <a:latin typeface="Arial Unicode MS"/>
              </a:rPr>
              <a:t>1972 Abitur am Gymnasium Andreanum in Hildesheim</a:t>
            </a:r>
            <a:br>
              <a:rPr sz="1600"/>
            </a:b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Datumsplatzhalt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4A40-D771-416F-8B74-44CA1B916C77}" type="datetime2">
              <a:rPr b="0" lang="de-DE" sz="1400" spc="-1" strike="noStrike">
                <a:solidFill>
                  <a:srgbClr val="0000ff"/>
                </a:solidFill>
                <a:latin typeface="Times New Roman"/>
              </a:rPr>
              <a:t>Freitag, 31. Juli 2026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Fußzeilenplatzhalt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Times New Roman"/>
              </a:rPr>
              <a:t>Sebstpräsentation +++ Erwin Thomasius +++ Selbstpräsentatio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Foliennummernplatzhalt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7160-1B21-4A27-85E7-67D25596331B}" type="slidenum">
              <a:rPr b="0" lang="de-DE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ff"/>
                </a:solidFill>
                <a:latin typeface="Arial Unicode MS"/>
              </a:rPr>
              <a:t>Erfahrung und Kreativität</a:t>
            </a: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685800" y="2209680"/>
            <a:ext cx="41148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 Unicode MS"/>
              </a:rPr>
              <a:t>Ich besitze Erfahrungen in unterschiedlichen Arbeits-</a:t>
            </a:r>
            <a:br>
              <a:rPr sz="2400"/>
            </a:br>
            <a:r>
              <a:rPr b="0" lang="de-DE" sz="2400" spc="-1" strike="noStrike">
                <a:solidFill>
                  <a:srgbClr val="0000ff"/>
                </a:solidFill>
                <a:latin typeface="Arial Unicode MS"/>
              </a:rPr>
              <a:t>und Lebensbereichen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 Unicode MS"/>
              </a:rPr>
              <a:t>und kann mich schnell in ein neues Gebiet einarbeiten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4" name="Picture 6" descr="erwin_thomasius_photo"/>
          <p:cNvPicPr/>
          <p:nvPr/>
        </p:nvPicPr>
        <p:blipFill>
          <a:blip r:embed="rId1"/>
          <a:stretch/>
        </p:blipFill>
        <p:spPr>
          <a:xfrm>
            <a:off x="4987800" y="1981080"/>
            <a:ext cx="31291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umsplatzhalt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A528-DBFA-4033-A649-2CD4E9C19D96}" type="datetime2">
              <a:rPr b="0" lang="de-DE" sz="1400" spc="-1" strike="noStrike">
                <a:solidFill>
                  <a:srgbClr val="0000ff"/>
                </a:solidFill>
                <a:latin typeface="Times New Roman"/>
              </a:rPr>
              <a:t>Freitag, 31. Juli 2026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Fußzeilenplatzhalt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Times New Roman"/>
              </a:rPr>
              <a:t>Sebstpräsentation +++ Erwin Thomasius +++ Selbstpräsentatio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Foliennummernplatzhalt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83AE-D79D-4924-B6EB-62A2284B0AC5}" type="slidenum">
              <a:rPr b="0" lang="de-DE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ff"/>
                </a:solidFill>
                <a:latin typeface="Arial Unicode MS"/>
              </a:rPr>
              <a:t>Erwin Thomasius online</a:t>
            </a: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590920" y="2819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Bitte click mich schnel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AutoShape 6">
            <a:hlinkClick r:id="rId1"/>
          </p:cNvPr>
          <p:cNvSpPr/>
          <p:nvPr/>
        </p:nvSpPr>
        <p:spPr>
          <a:xfrm>
            <a:off x="4114800" y="3809880"/>
            <a:ext cx="4191120" cy="2210040"/>
          </a:xfrm>
          <a:custGeom>
            <a:avLst/>
            <a:gdLst>
              <a:gd name="textAreaLeft" fmla="*/ 142920 w 4191120"/>
              <a:gd name="textAreaRight" fmla="*/ 4048200 w 4191120"/>
              <a:gd name="textAreaTop" fmla="*/ 142920 h 2210040"/>
              <a:gd name="textAreaBottom" fmla="*/ 2067120 h 2210040"/>
            </a:gdLst>
            <a:ahLst/>
            <a:rect l="textAreaLeft" t="textAreaTop" r="textAreaRight" b="textAreaBottom"/>
            <a:pathLst>
              <a:path w="40959" h="21600">
                <a:moveTo>
                  <a:pt x="0" y="0"/>
                </a:moveTo>
                <a:lnTo>
                  <a:pt x="40959" y="0"/>
                </a:lnTo>
                <a:lnTo>
                  <a:pt x="40959" y="21600"/>
                </a:lnTo>
                <a:lnTo>
                  <a:pt x="0" y="21600"/>
                </a:lnTo>
                <a:close/>
              </a:path>
              <a:path fill="lightenLess" w="40959" h="21600">
                <a:moveTo>
                  <a:pt x="0" y="0"/>
                </a:moveTo>
                <a:lnTo>
                  <a:pt x="40959" y="0"/>
                </a:lnTo>
                <a:lnTo>
                  <a:pt x="39559" y="1400"/>
                </a:lnTo>
                <a:lnTo>
                  <a:pt x="1400" y="1400"/>
                </a:lnTo>
                <a:close/>
              </a:path>
              <a:path fill="darken" w="40959" h="21600">
                <a:moveTo>
                  <a:pt x="40959" y="0"/>
                </a:moveTo>
                <a:lnTo>
                  <a:pt x="40959" y="21600"/>
                </a:lnTo>
                <a:lnTo>
                  <a:pt x="39559" y="20200"/>
                </a:lnTo>
                <a:lnTo>
                  <a:pt x="39559" y="1400"/>
                </a:lnTo>
                <a:close/>
              </a:path>
              <a:path fill="darkenLess" w="40959" h="21600">
                <a:moveTo>
                  <a:pt x="40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59" y="20200"/>
                </a:lnTo>
                <a:close/>
              </a:path>
              <a:path fill="lighten" w="40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59" h="21600">
                <a:moveTo>
                  <a:pt x="23978" y="10800"/>
                </a:moveTo>
                <a:lnTo>
                  <a:pt x="13473" y="17806"/>
                </a:lnTo>
                <a:lnTo>
                  <a:pt x="13473" y="3794"/>
                </a:lnTo>
                <a:close/>
              </a:path>
              <a:path fill="darken" w="40959" h="21600">
                <a:moveTo>
                  <a:pt x="25824" y="3794"/>
                </a:moveTo>
                <a:lnTo>
                  <a:pt x="25824" y="17806"/>
                </a:lnTo>
                <a:lnTo>
                  <a:pt x="27486" y="17806"/>
                </a:lnTo>
                <a:lnTo>
                  <a:pt x="27486" y="3794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762120" y="21337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Bitte schnell auf die Schaltfläche unten rechts klicken !!!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7T07:16:41Z</dcterms:created>
  <dc:creator>ECDL070612</dc:creator>
  <dc:description/>
  <dc:language>en-US</dc:language>
  <cp:lastModifiedBy>Thomasius</cp:lastModifiedBy>
  <dcterms:modified xsi:type="dcterms:W3CDTF">2010-04-16T21:06:21Z</dcterms:modified>
  <cp:revision>33</cp:revision>
  <dc:subject/>
  <dc:title>PowerPoint-Präsentation</dc:title>
</cp:coreProperties>
</file>